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C2F-BFCB-4667-BFD6-C8440517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187-0EA0-4543-8FFB-EC91A995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229-2738-4C4C-9C09-4BB0D8C2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2B6-6AEF-45E8-AAEF-FC7E1E9A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D702-177B-4DBB-BAFB-DB7D3EB7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D750-1657-4A05-9C1A-30030884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1B98-7F31-46EE-AD8C-ECC0F182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35BB-012B-46D5-A026-9BFFAEAB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9C63-BA55-4F77-89AF-7899C469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5541-CD11-40CE-B26C-DA8675E4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24FA-817D-4B91-A141-96DF3199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8E83-1623-4B15-9496-A79E709F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D29A-C6E0-4CDC-85F4-77655F6C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C84B-13A6-4F00-8C94-8AA28F57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8F6D-F6E7-4A8D-9C14-FC243690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80FA-05B4-4F27-B4D1-6F9BE987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8EFE-CED3-4789-B215-64FD7CCE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06DBF-1146-48A1-8B07-5BCC05CC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4C385-F93E-4ECD-A379-FBF50969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3643F-EA4A-4193-B43C-0F8FA121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997BA-4BC7-4DDA-857C-165033A1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BA514-D26A-4B7E-AABF-98290564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C12-247F-4D5F-97C6-07096ED0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4E29C-B018-4D7E-A29D-A95AA071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A0823-13F9-4A6F-B24F-F6174CB9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8DF6D-F24C-48D1-956A-D311A2C3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385C0-37A4-4313-8D30-D5788C4C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A97A5-DB55-4E19-A648-AD314734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C780F-31FE-4592-858A-89870BA8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C7267-A21B-461F-9303-78AD6C01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5110F-582B-43B0-9693-4E9B9E48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24C2-8F9E-406C-AC63-194A40CE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3CB6-E1B0-41A5-888F-BA7495D4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6F9-2791-46C6-9A19-5A63A8DA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1544-36B8-47A9-8AE7-F69DF1DD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3C18-6B9C-43EC-B265-C088FE88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5C94-AF50-4624-B5F9-84705119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C658-12C8-4BFA-A3BB-6780DCF5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B7D50-6B44-4BB2-9834-2E8659B5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B14C-0EA4-46B2-8175-BD56928F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54F1-015E-4913-B9B4-A63FB552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34E7F-3244-42C7-BB0F-B2A43937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3540-302B-4E97-8BAF-24C313A6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79A-6991-4382-9739-2F213C07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E6A-DE54-4A87-B2D2-8EDE53CA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B81-3C44-449D-8D8F-63939FD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811-1EE6-4E7A-8879-A8704471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9F7-7B00-4B8B-8291-03D972DF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1AC6-F7CA-4910-A13B-67024285FDA2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06E4-B616-4983-90D1-F3270306D8DF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9C17-E4ED-4F50-BA0E-7B1920018CC2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1EA0-7024-46E6-A078-5786DD383729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rebuchet MS"/>
              </a:rPr>
              <a:t>Mnożenie pisemne przez liczbę jednocyfrową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6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3059280" y="4797360"/>
            <a:ext cx="349560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18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dwucyfrowej przez jednocyfrową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zapisujemy oba czynniki w słupku, a iloczyn pod kreską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mnoży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· 2 = 4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mnożymy dziesiątk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· 3 = 6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dziesiątek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ynik mnożenia </a:t>
            </a:r>
            <a:r>
              <a:rPr b="1" lang="pl-PL" sz="2000" spc="-1" strike="noStrike">
                <a:solidFill>
                  <a:srgbClr val="000000"/>
                </a:solidFill>
                <a:latin typeface="Georgia"/>
              </a:rPr>
              <a:t>32 · 2 = 6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ole tekstowe 7"/>
          <p:cNvSpPr/>
          <p:nvPr/>
        </p:nvSpPr>
        <p:spPr>
          <a:xfrm>
            <a:off x="7358760" y="2916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24" name="Łącznik prostoliniowy 9"/>
            <p:cNvSpPr/>
            <p:nvPr/>
          </p:nvSpPr>
          <p:spPr>
            <a:xfrm>
              <a:off x="6875640" y="3213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pole tekstowe 11"/>
            <p:cNvSpPr/>
            <p:nvPr/>
          </p:nvSpPr>
          <p:spPr>
            <a:xfrm>
              <a:off x="6955560" y="2860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26" name="Grupa 25"/>
          <p:cNvGrpSpPr/>
          <p:nvPr/>
        </p:nvGrpSpPr>
        <p:grpSpPr>
          <a:xfrm>
            <a:off x="6875640" y="3573360"/>
            <a:ext cx="1081080" cy="574920"/>
            <a:chOff x="6875640" y="3573360"/>
            <a:chExt cx="1081080" cy="574920"/>
          </a:xfrm>
        </p:grpSpPr>
        <p:sp>
          <p:nvSpPr>
            <p:cNvPr id="227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pole tekstowe 13"/>
            <p:cNvSpPr/>
            <p:nvPr/>
          </p:nvSpPr>
          <p:spPr>
            <a:xfrm>
              <a:off x="7359120" y="3780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Łącznik prostoliniowy 14"/>
            <p:cNvSpPr/>
            <p:nvPr/>
          </p:nvSpPr>
          <p:spPr>
            <a:xfrm>
              <a:off x="6875640" y="4077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pole tekstowe 15"/>
            <p:cNvSpPr/>
            <p:nvPr/>
          </p:nvSpPr>
          <p:spPr>
            <a:xfrm>
              <a:off x="6955560" y="3724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1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2" name="Grupa 22"/>
          <p:cNvGrpSpPr/>
          <p:nvPr/>
        </p:nvGrpSpPr>
        <p:grpSpPr>
          <a:xfrm>
            <a:off x="6872400" y="4805280"/>
            <a:ext cx="1081080" cy="800640"/>
            <a:chOff x="6872400" y="4805280"/>
            <a:chExt cx="1081080" cy="800640"/>
          </a:xfrm>
        </p:grpSpPr>
        <p:sp>
          <p:nvSpPr>
            <p:cNvPr id="233" name="pole tekstowe 17"/>
            <p:cNvSpPr/>
            <p:nvPr/>
          </p:nvSpPr>
          <p:spPr>
            <a:xfrm>
              <a:off x="7158600" y="4805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4" name="pole tekstowe 18"/>
            <p:cNvSpPr/>
            <p:nvPr/>
          </p:nvSpPr>
          <p:spPr>
            <a:xfrm>
              <a:off x="7355880" y="5011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5" name="Łącznik prostoliniowy 19"/>
            <p:cNvSpPr/>
            <p:nvPr/>
          </p:nvSpPr>
          <p:spPr>
            <a:xfrm>
              <a:off x="6872400" y="530964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pole tekstowe 20"/>
            <p:cNvSpPr/>
            <p:nvPr/>
          </p:nvSpPr>
          <p:spPr>
            <a:xfrm>
              <a:off x="6952320" y="495648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7" name="pole tekstowe 21"/>
            <p:cNvSpPr/>
            <p:nvPr/>
          </p:nvSpPr>
          <p:spPr>
            <a:xfrm>
              <a:off x="7349040" y="5237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8" name="pole tekstowe 23"/>
          <p:cNvSpPr/>
          <p:nvPr/>
        </p:nvSpPr>
        <p:spPr>
          <a:xfrm>
            <a:off x="712692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Elipsa 3"/>
          <p:cNvSpPr/>
          <p:nvPr/>
        </p:nvSpPr>
        <p:spPr>
          <a:xfrm>
            <a:off x="7408800" y="3573360"/>
            <a:ext cx="249480" cy="55080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Elipsa 4"/>
          <p:cNvSpPr/>
          <p:nvPr/>
        </p:nvSpPr>
        <p:spPr>
          <a:xfrm rot="19501800">
            <a:off x="7288200" y="4851000"/>
            <a:ext cx="222120" cy="5032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75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75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75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7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5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7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5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7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6 · 2 =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2 · 4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1 · 9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3 · 3 =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75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75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75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75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46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dwucyfrowej przez jednocyfrową z przekroczeniem progu dziesiątkowego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- zapisujemy oba czynniki w słupku, a iloczyn pod kreską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mnoży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 · 2 = 1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;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a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jedności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jedności w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ę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pisujemy do rzędu dziesiątek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następnie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mnożymy 6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rzez dziesiątki;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6 · 4 = 2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dodajemy dodatkową 1 dziesiątkę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które powstały z jedności; stąd ma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4 + 1 = 25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5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setki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nieważ w rzędzie setek nie mamy cyfr,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spisujemy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stąd ma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5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ole tekstowe 7"/>
          <p:cNvSpPr/>
          <p:nvPr/>
        </p:nvSpPr>
        <p:spPr>
          <a:xfrm>
            <a:off x="7358760" y="2916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5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52" name="Łącznik prostoliniowy 9"/>
            <p:cNvSpPr/>
            <p:nvPr/>
          </p:nvSpPr>
          <p:spPr>
            <a:xfrm>
              <a:off x="6875640" y="3213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3" name="pole tekstowe 11"/>
            <p:cNvSpPr/>
            <p:nvPr/>
          </p:nvSpPr>
          <p:spPr>
            <a:xfrm>
              <a:off x="6955560" y="2860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54" name="Grupa 25"/>
          <p:cNvGrpSpPr/>
          <p:nvPr/>
        </p:nvGrpSpPr>
        <p:grpSpPr>
          <a:xfrm>
            <a:off x="6875640" y="3573360"/>
            <a:ext cx="1081080" cy="574920"/>
            <a:chOff x="6875640" y="3573360"/>
            <a:chExt cx="1081080" cy="574920"/>
          </a:xfrm>
        </p:grpSpPr>
        <p:sp>
          <p:nvSpPr>
            <p:cNvPr id="255" name="pole tekstowe 12"/>
            <p:cNvSpPr/>
            <p:nvPr/>
          </p:nvSpPr>
          <p:spPr>
            <a:xfrm>
              <a:off x="7161840" y="35733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6" name="pole tekstowe 13"/>
            <p:cNvSpPr/>
            <p:nvPr/>
          </p:nvSpPr>
          <p:spPr>
            <a:xfrm>
              <a:off x="7359120" y="3780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7" name="Łącznik prostoliniowy 14"/>
            <p:cNvSpPr/>
            <p:nvPr/>
          </p:nvSpPr>
          <p:spPr>
            <a:xfrm>
              <a:off x="6875640" y="4077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58" name="pole tekstowe 15"/>
            <p:cNvSpPr/>
            <p:nvPr/>
          </p:nvSpPr>
          <p:spPr>
            <a:xfrm>
              <a:off x="6955560" y="372456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59" name="pole tekstowe 16"/>
          <p:cNvSpPr/>
          <p:nvPr/>
        </p:nvSpPr>
        <p:spPr>
          <a:xfrm>
            <a:off x="7352280" y="400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ole tekstowe 23"/>
          <p:cNvSpPr/>
          <p:nvPr/>
        </p:nvSpPr>
        <p:spPr>
          <a:xfrm>
            <a:off x="694584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ole tekstowe 26"/>
          <p:cNvSpPr/>
          <p:nvPr/>
        </p:nvSpPr>
        <p:spPr>
          <a:xfrm>
            <a:off x="7152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2" name="Grupa 3"/>
          <p:cNvGrpSpPr/>
          <p:nvPr/>
        </p:nvGrpSpPr>
        <p:grpSpPr>
          <a:xfrm>
            <a:off x="6872400" y="4581360"/>
            <a:ext cx="1081080" cy="1024920"/>
            <a:chOff x="6872400" y="4581360"/>
            <a:chExt cx="1081080" cy="1024920"/>
          </a:xfrm>
        </p:grpSpPr>
        <p:grpSp>
          <p:nvGrpSpPr>
            <p:cNvPr id="263" name="Grupa 22"/>
            <p:cNvGrpSpPr/>
            <p:nvPr/>
          </p:nvGrpSpPr>
          <p:grpSpPr>
            <a:xfrm>
              <a:off x="6872400" y="4806000"/>
              <a:ext cx="1081080" cy="800280"/>
              <a:chOff x="6872400" y="4806000"/>
              <a:chExt cx="1081080" cy="800280"/>
            </a:xfrm>
          </p:grpSpPr>
          <p:sp>
            <p:nvSpPr>
              <p:cNvPr id="264" name="pole tekstowe 17"/>
              <p:cNvSpPr/>
              <p:nvPr/>
            </p:nvSpPr>
            <p:spPr>
              <a:xfrm>
                <a:off x="7158600" y="480600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4 2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pole tekstowe 18"/>
              <p:cNvSpPr/>
              <p:nvPr/>
            </p:nvSpPr>
            <p:spPr>
              <a:xfrm>
                <a:off x="7355880" y="501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6" name="Łącznik prostoliniowy 19"/>
              <p:cNvSpPr/>
              <p:nvPr/>
            </p:nvSpPr>
            <p:spPr>
              <a:xfrm>
                <a:off x="6872400" y="5310000"/>
                <a:ext cx="10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7" name="pole tekstowe 20"/>
              <p:cNvSpPr/>
              <p:nvPr/>
            </p:nvSpPr>
            <p:spPr>
              <a:xfrm>
                <a:off x="6952320" y="4957200"/>
                <a:ext cx="25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Georgia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8" name="pole tekstowe 21"/>
              <p:cNvSpPr/>
              <p:nvPr/>
            </p:nvSpPr>
            <p:spPr>
              <a:xfrm>
                <a:off x="7349040" y="5238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69" name="pole tekstowe 27"/>
            <p:cNvSpPr/>
            <p:nvPr/>
          </p:nvSpPr>
          <p:spPr>
            <a:xfrm>
              <a:off x="7161480" y="4581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rebuchet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70" name="pole tekstowe 28"/>
          <p:cNvSpPr/>
          <p:nvPr/>
        </p:nvSpPr>
        <p:spPr>
          <a:xfrm>
            <a:off x="6926760" y="459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ole tekstowe 29"/>
          <p:cNvSpPr/>
          <p:nvPr/>
        </p:nvSpPr>
        <p:spPr>
          <a:xfrm>
            <a:off x="7142760" y="52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75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36 · 6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25 · 7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43 · 5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77 · 3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5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Obraz 5" descr=""/>
          <p:cNvPicPr/>
          <p:nvPr/>
        </p:nvPicPr>
        <p:blipFill>
          <a:blip r:embed="rId1"/>
          <a:srcRect l="13996" t="22486" r="2451" b="3104"/>
          <a:stretch/>
        </p:blipFill>
        <p:spPr>
          <a:xfrm>
            <a:off x="4390920" y="2004840"/>
            <a:ext cx="4523040" cy="40532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Mnożenie liczby trzycyfrowej przez jednocyfrową z przekroczeniem progu dziesiątkowego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1761840"/>
            <a:ext cx="822960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- zapisujemy oba czynniki w słupku, a iloczyn pod kreską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przez 8 mnoży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7 = 5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;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dziesiątek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6 jednośc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zapisujemy w rzędzie jedności 6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5 dziesiątek dopisujemy do rzędu dziesiątek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następnie przez 8 mnożymy dziesiątki: 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2 = 1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pamiętamy o 5 dziesiątkach, które powstały z jednośc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otrzym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6 + 5 = 21,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21 to 2 setki i 1 dziesiątka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dziesiątek zapisujemy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setki dopisujemy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 rzędu setek. 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teraz mnoży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przez setki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: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· 1 = 8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pamiętamy o 2 setkach, które powsta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 dziesiątek i otrzym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8 + 2 = 10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iloczynie w rzędzie setek pisz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w rzędzie tysięcy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– ponieważ w rzędzie tysięcy nie ma żadnych liczb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spisujemy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i stąd mamy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01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6"/>
          <p:cNvSpPr/>
          <p:nvPr/>
        </p:nvSpPr>
        <p:spPr>
          <a:xfrm>
            <a:off x="6844320" y="22273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2 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ole tekstowe 7"/>
          <p:cNvSpPr/>
          <p:nvPr/>
        </p:nvSpPr>
        <p:spPr>
          <a:xfrm>
            <a:off x="7225200" y="2427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1" name="Grupa 24"/>
          <p:cNvGrpSpPr/>
          <p:nvPr/>
        </p:nvGrpSpPr>
        <p:grpSpPr>
          <a:xfrm>
            <a:off x="6678720" y="2373480"/>
            <a:ext cx="1144440" cy="398880"/>
            <a:chOff x="6678720" y="2373480"/>
            <a:chExt cx="1144440" cy="398880"/>
          </a:xfrm>
        </p:grpSpPr>
        <p:sp>
          <p:nvSpPr>
            <p:cNvPr id="282" name="Łącznik prostoliniowy 9"/>
            <p:cNvSpPr/>
            <p:nvPr/>
          </p:nvSpPr>
          <p:spPr>
            <a:xfrm>
              <a:off x="6742800" y="272628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3" name="pole tekstowe 11"/>
            <p:cNvSpPr/>
            <p:nvPr/>
          </p:nvSpPr>
          <p:spPr>
            <a:xfrm>
              <a:off x="6678720" y="237348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4" name="Grupa 25"/>
          <p:cNvGrpSpPr/>
          <p:nvPr/>
        </p:nvGrpSpPr>
        <p:grpSpPr>
          <a:xfrm>
            <a:off x="6678720" y="3071880"/>
            <a:ext cx="1144440" cy="588600"/>
            <a:chOff x="6678720" y="3071880"/>
            <a:chExt cx="1144440" cy="588600"/>
          </a:xfrm>
        </p:grpSpPr>
        <p:sp>
          <p:nvSpPr>
            <p:cNvPr id="285" name="pole tekstowe 12"/>
            <p:cNvSpPr/>
            <p:nvPr/>
          </p:nvSpPr>
          <p:spPr>
            <a:xfrm>
              <a:off x="6844680" y="307188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2 7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pole tekstowe 13"/>
            <p:cNvSpPr/>
            <p:nvPr/>
          </p:nvSpPr>
          <p:spPr>
            <a:xfrm>
              <a:off x="7225920" y="329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Łącznik prostoliniowy 14"/>
            <p:cNvSpPr/>
            <p:nvPr/>
          </p:nvSpPr>
          <p:spPr>
            <a:xfrm>
              <a:off x="6742800" y="3589200"/>
              <a:ext cx="108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8" name="pole tekstowe 15"/>
            <p:cNvSpPr/>
            <p:nvPr/>
          </p:nvSpPr>
          <p:spPr>
            <a:xfrm>
              <a:off x="6678720" y="3237120"/>
              <a:ext cx="25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9" name="pole tekstowe 16"/>
          <p:cNvSpPr/>
          <p:nvPr/>
        </p:nvSpPr>
        <p:spPr>
          <a:xfrm>
            <a:off x="7219080" y="35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3"/>
          <p:cNvSpPr/>
          <p:nvPr/>
        </p:nvSpPr>
        <p:spPr>
          <a:xfrm>
            <a:off x="6812640" y="475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26"/>
          <p:cNvSpPr/>
          <p:nvPr/>
        </p:nvSpPr>
        <p:spPr>
          <a:xfrm>
            <a:off x="7018920" y="286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2" name="Grupa 3"/>
          <p:cNvGrpSpPr/>
          <p:nvPr/>
        </p:nvGrpSpPr>
        <p:grpSpPr>
          <a:xfrm>
            <a:off x="6516720" y="4103640"/>
            <a:ext cx="1303200" cy="1016280"/>
            <a:chOff x="6516720" y="4103640"/>
            <a:chExt cx="1303200" cy="1016280"/>
          </a:xfrm>
        </p:grpSpPr>
        <p:grpSp>
          <p:nvGrpSpPr>
            <p:cNvPr id="293" name="Grupa 22"/>
            <p:cNvGrpSpPr/>
            <p:nvPr/>
          </p:nvGrpSpPr>
          <p:grpSpPr>
            <a:xfrm>
              <a:off x="6516720" y="4338000"/>
              <a:ext cx="1303200" cy="781920"/>
              <a:chOff x="6516720" y="4338000"/>
              <a:chExt cx="1303200" cy="781920"/>
            </a:xfrm>
          </p:grpSpPr>
          <p:sp>
            <p:nvSpPr>
              <p:cNvPr id="294" name="pole tekstowe 17"/>
              <p:cNvSpPr/>
              <p:nvPr/>
            </p:nvSpPr>
            <p:spPr>
              <a:xfrm>
                <a:off x="6799680" y="4338000"/>
                <a:ext cx="73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1 2 7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5" name="pole tekstowe 18"/>
              <p:cNvSpPr/>
              <p:nvPr/>
            </p:nvSpPr>
            <p:spPr>
              <a:xfrm>
                <a:off x="7193160" y="45252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6" name="Łącznik prostoliniowy 19"/>
              <p:cNvSpPr/>
              <p:nvPr/>
            </p:nvSpPr>
            <p:spPr>
              <a:xfrm>
                <a:off x="6516720" y="4822920"/>
                <a:ext cx="1303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7" name="pole tekstowe 20"/>
              <p:cNvSpPr/>
              <p:nvPr/>
            </p:nvSpPr>
            <p:spPr>
              <a:xfrm>
                <a:off x="6678720" y="4469760"/>
                <a:ext cx="25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000000"/>
                    </a:solidFill>
                    <a:latin typeface="Georgia"/>
                  </a:rPr>
                  <a:t>·</a:t>
                </a: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98" name="pole tekstowe 21"/>
              <p:cNvSpPr/>
              <p:nvPr/>
            </p:nvSpPr>
            <p:spPr>
              <a:xfrm>
                <a:off x="7211520" y="4751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rebuchet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99" name="pole tekstowe 27"/>
            <p:cNvSpPr/>
            <p:nvPr/>
          </p:nvSpPr>
          <p:spPr>
            <a:xfrm>
              <a:off x="6998040" y="4103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0000"/>
                  </a:solidFill>
                  <a:latin typeface="Trebuchet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00" name="pole tekstowe 28"/>
          <p:cNvSpPr/>
          <p:nvPr/>
        </p:nvSpPr>
        <p:spPr>
          <a:xfrm>
            <a:off x="6793560" y="409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ole tekstowe 29"/>
          <p:cNvSpPr/>
          <p:nvPr/>
        </p:nvSpPr>
        <p:spPr>
          <a:xfrm>
            <a:off x="7009560" y="475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ole tekstowe 30"/>
          <p:cNvSpPr/>
          <p:nvPr/>
        </p:nvSpPr>
        <p:spPr>
          <a:xfrm>
            <a:off x="6577560" y="409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ole tekstowe 31"/>
          <p:cNvSpPr/>
          <p:nvPr/>
        </p:nvSpPr>
        <p:spPr>
          <a:xfrm>
            <a:off x="6577560" y="4749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75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75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16 · 5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131 · 9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332 · 6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eorgia"/>
              </a:rPr>
              <a:t>453 · 8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Tytuł 1"/>
          <p:cNvSpPr/>
          <p:nvPr/>
        </p:nvSpPr>
        <p:spPr>
          <a:xfrm>
            <a:off x="250920" y="533520"/>
            <a:ext cx="505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Ćwiczenie – wykonaj mnoże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7" name="Obraz 5" descr=""/>
          <p:cNvPicPr/>
          <p:nvPr/>
        </p:nvPicPr>
        <p:blipFill>
          <a:blip r:embed="rId2"/>
          <a:srcRect l="13996" t="22486" r="2451" b="3104"/>
          <a:stretch/>
        </p:blipFill>
        <p:spPr>
          <a:xfrm>
            <a:off x="4524480" y="2492280"/>
            <a:ext cx="45226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5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1T12:47:24Z</dcterms:modified>
  <cp:revision>28</cp:revision>
  <dc:subject/>
  <dc:title>Prezentacja programu PowerPoint</dc:title>
</cp:coreProperties>
</file>